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23B8C7-DE9C-4F95-AA7C-45EA612C81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AE2F34-D15D-4778-82D5-14F52034F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48BC222-0ED7-4913-B16F-E891F948D5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DE18455-FDF4-498F-8027-574AB0EE8F6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B43A83D-0C95-4600-832F-CE758A3E42B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A907EF-665D-4DC1-8399-53D6705609C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EE25284-19DB-49DD-8CE8-C6CF3AA9BEF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4B43833-4FFC-42E0-AAE0-16CB536EB5E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2BDC07-AF45-4D76-9EC8-6C752222D9F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98EDD33-D0B1-40AC-8988-B9CF575A5B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9C6096-99D8-48CC-B7CB-D98A9CCE38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D627C5-1575-4387-B900-E76475E95F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6F3ADF5-6B23-4691-B3C0-00CE2D38591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D01DB92-6731-4C5B-9A8E-DA55981790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A55330-F7DC-4A93-9C39-E3F6C602998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13759F9-0FB0-4AC4-B489-B7AE37176F3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ED8B6E-BD6A-4B86-8969-E3D9EDE4219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F9A1DB0-3B25-42DC-8A9F-20AA17DCA50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1B00435-AC41-4389-BC1C-9D1D100A587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F7E9267-71B2-4326-89F7-2D7D10599A0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5532918-9219-44F4-9915-CBD702251C0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F879DBA-0EC2-401F-9ED8-00D65684339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DC577C-0E7D-4BFC-98EE-C7E8DC587E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EEA2A31A-808E-4BED-8B73-F466773B30E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396F843-8E9E-46A3-92FE-2EC84F20EE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A79C31-278B-4026-92BE-1F06F1CC8FB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6A7F68-F183-4480-A527-DA88E3D3F51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F08A26C-21E5-456A-A773-59EF92E0FC6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6B4FF27-729C-4DF5-87A7-3A0A3C77AF1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16731CD-8611-4A0B-BA0F-665DD65259E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E24332D-3E92-4777-AF3D-85EC95C7789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D1F4D9F-7001-4D44-97F2-570B4A518DA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78AB36-8E71-4A24-BA9A-3E2FC337E8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8DA4A1-367A-4F97-BE43-59B58F5CC5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65F54CE-260E-48C6-8213-F959EBCA023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54DE1C4-1F81-4081-854D-173F8973507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51586DC-C756-4119-8FE6-7531989B02E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3D1D1A-CF54-4D62-9337-7E3F67293A1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694A7C-3CA3-4990-9ED1-57A6F78910A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B7E3CD6-2E03-4D61-B053-13EE3DD64E7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57761D6-221B-4FF9-BB00-6FA8750E78C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B2D51F4-4998-47A4-B7A5-4544FE1CEC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5840CCC-80BD-46CB-B38C-F94B5871B62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C5F6D-0DDA-40C4-A22F-3A95068C74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4EBB10-D431-43F7-ADD0-2110AC3536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8D0C3A-2114-4A65-8480-D1A236AD0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2027D6-CA04-4F7F-9F3F-89F62878BA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FF9A6C-D8F3-41A8-B4F7-A015C25034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0AC4A-A5A0-4BD9-87F8-72BE5E069E3D}" type="datetime">
              <a:rPr b="0" lang="it-IT"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941645-D785-4A61-8A31-11D476A081F3}"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igura a mano libera 12"/>
            <p:cNvGrpSpPr/>
            <p:nvPr/>
          </p:nvGrpSpPr>
          <p:grpSpPr>
            <a:xfrm>
              <a:off x="-19080" y="248040"/>
              <a:ext cx="9181080" cy="565200"/>
              <a:chOff x="-19080" y="248040"/>
              <a:chExt cx="9181080" cy="565200"/>
            </a:xfrm>
          </p:grpSpPr>
          <p:pic>
            <p:nvPicPr>
              <p:cNvPr id="12" name="Figura a mano libera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62720" cy="648000"/>
              <a:chOff x="-19080" y="203040"/>
              <a:chExt cx="9162720" cy="648000"/>
            </a:xfrm>
          </p:grpSpPr>
          <p:pic>
            <p:nvPicPr>
              <p:cNvPr id="54" name="Figura a mano libera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igura a mano libera 12"/>
            <p:cNvGrpSpPr/>
            <p:nvPr/>
          </p:nvGrpSpPr>
          <p:grpSpPr>
            <a:xfrm>
              <a:off x="-19080" y="248040"/>
              <a:ext cx="9181080" cy="565200"/>
              <a:chOff x="-19080" y="248040"/>
              <a:chExt cx="9181080" cy="565200"/>
            </a:xfrm>
          </p:grpSpPr>
          <p:pic>
            <p:nvPicPr>
              <p:cNvPr id="57" name="Figura a mano libera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3FFD4-2372-4E79-A7A4-867AA0427654}" type="datetime">
              <a:rPr b="0" lang="it-IT"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7D60C-FE05-4947-AF31-901BF56551E1}"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62720" cy="648000"/>
              <a:chOff x="-19080" y="203040"/>
              <a:chExt cx="9162720" cy="648000"/>
            </a:xfrm>
          </p:grpSpPr>
          <p:pic>
            <p:nvPicPr>
              <p:cNvPr id="104" name="Figura a mano libera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igura a mano libera 12"/>
            <p:cNvGrpSpPr/>
            <p:nvPr/>
          </p:nvGrpSpPr>
          <p:grpSpPr>
            <a:xfrm>
              <a:off x="-19080" y="248040"/>
              <a:ext cx="9181080" cy="565200"/>
              <a:chOff x="-19080" y="248040"/>
              <a:chExt cx="9181080" cy="565200"/>
            </a:xfrm>
          </p:grpSpPr>
          <p:pic>
            <p:nvPicPr>
              <p:cNvPr id="107" name="Figura a mano libera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B5179D-D424-4654-9C2F-C4787910B6A9}" type="datetime">
              <a:rPr b="0" lang="it-IT"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D3DE7E-959F-44D2-8BE7-07363AA75851}"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igura a mano libera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igura a mano libera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E1CC3F-EA35-4E78-B451-2D4E8AE46142}" type="datetime">
              <a:rPr b="0" lang="it-IT"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3D5AF-724F-4F82-B404-FDBD303EDC05}"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olo 1" descr=""/>
          <p:cNvPicPr/>
          <p:nvPr/>
        </p:nvPicPr>
        <p:blipFill>
          <a:blip r:embed="rId1"/>
          <a:stretch/>
        </p:blipFill>
        <p:spPr>
          <a:xfrm>
            <a:off x="298440" y="853920"/>
            <a:ext cx="8516880" cy="3546720"/>
          </a:xfrm>
          <a:prstGeom prst="rect">
            <a:avLst/>
          </a:prstGeom>
          <a:ln w="0">
            <a:noFill/>
          </a:ln>
        </p:spPr>
      </p:pic>
      <p:sp>
        <p:nvSpPr>
          <p:cNvPr id="196" name="PlaceHolder 1"/>
          <p:cNvSpPr>
            <a:spLocks noGrp="1"/>
          </p:cNvSpPr>
          <p:nvPr>
            <p:ph type="subTitle"/>
          </p:nvPr>
        </p:nvSpPr>
        <p:spPr>
          <a:xfrm>
            <a:off x="499680" y="464292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Differenze tra requisiti e criteri, definizione nel rispetto dei principi dell’ordinamento comunitario.</a:t>
            </a:r>
            <a:endParaRPr b="0" lang="en-US" sz="2600" spc="-1" strike="noStrike">
              <a:solidFill>
                <a:srgbClr val="ffffff"/>
              </a:solidFill>
              <a:latin typeface="Constantia"/>
            </a:endParaRPr>
          </a:p>
        </p:txBody>
      </p:sp>
      <p:sp>
        <p:nvSpPr>
          <p:cNvPr id="197" name="Segnaposto numero diapositiva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9F700-B7B9-4D4D-BBDF-86378CAC66D4}" type="slidenum">
              <a:rPr b="0" lang="it-IT"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8" name="Segnaposto piè di pagina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A.Barbiero - Requisiti e criteri - Roga 2009</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2</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Pertanto, </a:t>
            </a:r>
            <a:r>
              <a:rPr b="1" lang="it-IT" sz="2200" spc="-1" strike="noStrike">
                <a:solidFill>
                  <a:srgbClr val="000000"/>
                </a:solidFill>
                <a:latin typeface="Constantia"/>
              </a:rPr>
              <a:t>l’adeguatezza e proporzionalità dei requisiti</a:t>
            </a:r>
            <a:r>
              <a:rPr b="0" lang="it-IT" sz="2200" spc="-1" strike="noStrike">
                <a:solidFill>
                  <a:srgbClr val="000000"/>
                </a:solidFill>
                <a:latin typeface="Constantia"/>
              </a:rPr>
              <a:t> richiesti dal bando vanno </a:t>
            </a:r>
            <a:r>
              <a:rPr b="1" lang="it-IT" sz="2200" spc="-1" strike="noStrike">
                <a:solidFill>
                  <a:srgbClr val="000000"/>
                </a:solidFill>
                <a:latin typeface="Constantia"/>
              </a:rPr>
              <a:t>valutate</a:t>
            </a:r>
            <a:r>
              <a:rPr b="0" lang="it-IT" sz="2200" spc="-1" strike="noStrike">
                <a:solidFill>
                  <a:srgbClr val="000000"/>
                </a:solidFill>
                <a:latin typeface="Constantia"/>
              </a:rPr>
              <a:t> con riguardo non al mero importo dell'appalto, ma al suo </a:t>
            </a:r>
            <a:r>
              <a:rPr b="1" lang="it-IT" sz="2200" spc="-1" strike="noStrike">
                <a:solidFill>
                  <a:srgbClr val="000000"/>
                </a:solidFill>
                <a:latin typeface="Constantia"/>
              </a:rPr>
              <a:t>oggetto ed alle sue specifiche peculiarità,</a:t>
            </a:r>
            <a:r>
              <a:rPr b="0" lang="it-IT" sz="2200" spc="-1" strike="noStrike">
                <a:solidFill>
                  <a:srgbClr val="000000"/>
                </a:solidFill>
                <a:latin typeface="Constantia"/>
              </a:rPr>
              <a:t> sicché la richiesta di un determinato fatturato pregresso per servizi identici a quello oggetto di gara va commisurata al concreto interesse della stazione appaltante a una certa affidabilità del proprio interlocutore contrattuale, avuto riguardo alle prestazioni oggetto di affidamento. In definitiva, la previsione dei requisiti di ammissione alle procedure di evidenza pubblica - rientrante nella sfera di discrezionalità dell'amministrazione - oltre a rispettare i principi di proporzionalità ed adeguatezza alla tipologia ed oggetto della prestazione per la quale è stata indetta la gara, non deve tradursi in un'indebita limitazione dell'accesso delle imprese interessate presenti sul mercato (TAR Liguria, sez. II, sentenza n. 1238 del 27 maggio 2009).</a:t>
            </a:r>
            <a:endParaRPr b="0" lang="en-US" sz="2200" spc="-1" strike="noStrike">
              <a:solidFill>
                <a:srgbClr val="000000"/>
              </a:solidFill>
              <a:latin typeface="Constantia"/>
            </a:endParaRPr>
          </a:p>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37B7EE-319C-422D-A5FC-0FD152EA852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3</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i sensi dell'art. 42 d.lgs. n. 163 del 2006, l'elenco dei principali servizi prestati negli ultimi tre anni costituisce il primo (comma 1 lett. a) ma non certo il solo elemento in base al quale è possibile fornire la dimostrazione della capacità tecnica dei concorrenti; pertanto, appare manifestamente irragionevole e viziato in termini di violazione del principio di proporzionalità porre un elevato ed insuperabile parametro quantitativo relativo a tale elemento, senza consentire di dimostrare altrimenti il possesso di capacità proporzionate al servizio da affidare, sia attraverso il riferimento agli altri elementi di cui alla norma richiamata, sia attraverso la valutazione dello svolgimento di più servizi nell'ultimo triennio e non di uno solo (cfr. per un caso analogo T.A.R. Liguria Genova, sez. I, 17 marzo 2006 , n. 254). </a:t>
            </a:r>
            <a:endParaRPr b="0" lang="en-US" sz="2100" spc="-1" strike="noStrike">
              <a:solidFill>
                <a:srgbClr val="000000"/>
              </a:solidFill>
              <a:latin typeface="Constantia"/>
            </a:endParaRPr>
          </a:p>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ppare del tutto sproporzionato un limite quantitativo richiesto per le pregresse esperienze rispetto a quanto sarà oggetto del servizio posto a gara, in specie laddove il primo sia il quadruplo del secondo. </a:t>
            </a:r>
            <a:endParaRPr b="0" lang="en-US" sz="2100" spc="-1" strike="noStrike">
              <a:solidFill>
                <a:srgbClr val="000000"/>
              </a:solidFill>
              <a:latin typeface="Constantia"/>
            </a:endParaRPr>
          </a:p>
          <a:p>
            <a:pPr marL="253440" indent="-25344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B9AD60-4181-4660-93F5-3AE9F5D2E7F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Sintesi principio proporzionalità</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 requisiti partecipativi richiesti per una gara quando risultano sproporzionati rispetto all’oggetto del contratto  si risolvono pertanto in una non giustificata limitazione, nell’accesso alla gara, della platea dei possibili concorrenti, con chiara violazione dell’art. 42 comma 3 del d.lgs. 163/06 ( che riproduce il contenuto dell’art. 44 comma 3 della Direttiva CE 31.3.2005 18/04/CE), secondo cui le informazioni sulla capacità tecnica e professionale dei fornitori e dei prestatori dei servizi non possono eccedere l’oggetto dell’appalt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536585-DC00-4CA1-817C-E5AB248EE71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1</a:t>
            </a:r>
            <a:endParaRPr b="0" lang="en-US" sz="45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capacità economica e finanziaria concernente il possesso di un fatturato pari a tre volte l’importo del lotto per il quale si intende partecipare, risulta non proporzionato e lesivo della concorrenza.</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l requisito di aver eseguito appalti analoghi, nel triennio, di importo cumulativo pari almeno al 50 per cento dell’importo di ciascun lotto, da dimostrarsi con massimo cinque contratti risulta proporzionato rispetto al valore del lotto per il quale si intende partecipare.</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aver effettuato, nel triennio precedente, almeno un corso di formazione per dipendenti, deve essere valutato dalla S.A. in relazione alla particolare professionalità richiesta al prestatore del servizio, commisurata alla prestazione dedotta in appalto, tenuto conto della tipologia e natura del servizio stesso.</a:t>
            </a:r>
            <a:endParaRPr b="0" lang="en-US" sz="2200" spc="-1" strike="noStrike">
              <a:solidFill>
                <a:srgbClr val="000000"/>
              </a:solidFill>
              <a:latin typeface="Constantia"/>
            </a:endParaRPr>
          </a:p>
          <a:p>
            <a:pPr marL="259200" indent="-259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AVCP – parere n. 62 del 7 marzo 2007)</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CA13B1-0782-4583-A4BF-B0F117381470}"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2</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n un appalto di importo complessivo pari a Euro 300.000 IVA inclusa,  si richiede al concorrente di produrre una dichiarazione sostitutiva attestante tra l’altro l’esistenza di un fatturato globale negli ultimi tre esercizi finanziari complessivamente non inferiore ad Euro 5.000.000,00  nonchè di aver realizzato nell’ultimo triennio e distintamente per ciascun anno forniture di sistemi di controllo automatico degli accessi con apparati omologati per un valore complessivo non inferiore ad Euro 200.000 per ciascun anno solare.</a:t>
            </a:r>
            <a:endParaRPr b="0" lang="en-US" sz="1800" spc="-1" strike="noStrike">
              <a:solidFill>
                <a:srgbClr val="000000"/>
              </a:solidFill>
              <a:latin typeface="Constantia"/>
            </a:endParaRPr>
          </a:p>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l carattere sovrabbondante rispetto all’oggetto dell’appalto delle informazioni richieste risulta </a:t>
            </a:r>
            <a:r>
              <a:rPr b="0" i="1" lang="en-US" sz="1800" spc="-1" strike="noStrike">
                <a:solidFill>
                  <a:srgbClr val="000000"/>
                </a:solidFill>
                <a:latin typeface="Constantia"/>
              </a:rPr>
              <a:t>per tabulas</a:t>
            </a:r>
            <a:r>
              <a:rPr b="0" lang="en-US" sz="1800" spc="-1" strike="noStrike">
                <a:solidFill>
                  <a:srgbClr val="000000"/>
                </a:solidFill>
                <a:latin typeface="Constantia"/>
              </a:rPr>
              <a:t> dal mero confronto numerario dei valori in gioco, da cui emerge che la comprova sul fatturato dell’ultimo triennio si attesta su una soglia minima  pari a più di 15 volte l’ammontare dell’importo posto a base dell’appalto, nel mentre la sproporzionalità dell’ulteriore requisito inerente le forniture annue dell’ultimo triennio ( pari ad Euro 200.000 all’anno) si coglie se si ha riguardo al ristretto numero dei concorrenti capaci sul territorio nazionale  di fornire  servizi analoghi a quelli oggetto d’appalto (</a:t>
            </a:r>
            <a:r>
              <a:rPr b="0" lang="it-IT" sz="1800" spc="-1" strike="noStrike">
                <a:solidFill>
                  <a:srgbClr val="000000"/>
                </a:solidFill>
                <a:latin typeface="Constantia"/>
              </a:rPr>
              <a:t>TAR Puglia – Lecce, sez. II, sentenza n. 1 del 2 gennaio 2008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8040" indent="-2480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159F4E-75E7-4CB3-AA8E-0EC931DBF82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3</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7000"/>
          </a:bodyPr>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1800" spc="-1" strike="noStrike">
                <a:solidFill>
                  <a:srgbClr val="000000"/>
                </a:solidFill>
                <a:latin typeface="Constantia"/>
              </a:rPr>
              <a:t>La ragionevolezza dei requisiti non deve essere valutata in astratto, ma in correlazione al valore dell’appalto ed alle specifiche peculiarità dell’oggetto della gar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In particolare è stato ritenuto dall’AVCP non incongrua o sproporzionata, né limitativa dell’accesso alla gara la richiesta di un fatturato, nel triennio pregresso, sino al doppio dell’importo posto a base della stess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Nel caso analizzato nel parere n. 188/2008 l’AVCP rileva invece come venga richiesto il possesso di un fatturato minimo globale negli ultimi tre anni pari o superiore a euro 14.000.000,00.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Detto importo, risulta essere tre volte superiore all’importo a base della gara, pari a euro 4.886.065,52 per l’intera durata del contratto di quattro anni, corrispondente alla base d’asta della gara. Tenuto conto che la base d’asta è da intendersi riferita ai quattro anni e, pertanto, l’importo annuale richiesto è pari a euro 1.221.516, senza dubbio il fatturato di importo di euro 14.000.000 risulta essere palesemente sproporzionato.</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C9A5F0-45E0-4629-9AA7-BA19FD0EE9C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impropri</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Talora negli atti di gara sono richiesti requisiti che ineriscono l’esecuzione dell’appalto e che non sono riferibili all’ammissione alla gara.</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nibilità di specifiche attrezzature tecniche può essere prescritta nel bando a pena di esclusione solo in caso di assoluta necessità tecnica e i l possesso di specifiche attrezzature tecniche è requisito di esecuzione e pertanto la stazione appaltante in sede di gara può chiedere unicamente che i concorrenti dichiarino di impegnarsi a dotarsi delle necessarie attrezzature in caso di aggiudicazione (AVCP parere n. 103 del 13 aprile 2007).</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Il requisito di iscrizione all’Albo Nazionale dei Gestori Ambientali è requisito di esecuzione e non di partecipazione ad un appalto di lavori pubblici e i bandi di gara devono prevedere specifica clausola in base alla quale non si procederà alla stipulazione del contratto in caso di mancato possesso della relativa iscrizione (AVCP parere n. 95 del 30 marzo 2007).</a:t>
            </a:r>
            <a:endParaRPr b="0" lang="en-US" sz="20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6F7F-DFF3-428B-833A-64EBD7B97EF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e screening operatori economici (sintesi)</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requisiti di partecipazione sono funzionalizzati ad effettuare uno </a:t>
            </a:r>
            <a:r>
              <a:rPr b="1" lang="it-IT" sz="2400" spc="-1" strike="noStrike">
                <a:solidFill>
                  <a:srgbClr val="000000"/>
                </a:solidFill>
                <a:latin typeface="Constantia"/>
              </a:rPr>
              <a:t>screening</a:t>
            </a:r>
            <a:r>
              <a:rPr b="0" lang="it-IT" sz="2400" spc="-1" strike="noStrike">
                <a:solidFill>
                  <a:srgbClr val="000000"/>
                </a:solidFill>
                <a:latin typeface="Constantia"/>
              </a:rPr>
              <a:t> tra gli operatori economici aspiranti a partecipare alla gara di appalto.</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perazione di pre-qualificazione si fonda su un </a:t>
            </a:r>
            <a:r>
              <a:rPr b="1" lang="it-IT" sz="2400" spc="-1" strike="noStrike">
                <a:solidFill>
                  <a:srgbClr val="000000"/>
                </a:solidFill>
                <a:latin typeface="Constantia"/>
              </a:rPr>
              <a:t>accertamento dell’idoneità degli offerenti </a:t>
            </a:r>
            <a:r>
              <a:rPr b="0" lang="it-IT" sz="2400" spc="-1" strike="noStrike">
                <a:solidFill>
                  <a:srgbClr val="000000"/>
                </a:solidFill>
                <a:latin typeface="Constantia"/>
              </a:rPr>
              <a:t>deve essere effettuato dall’amministrazione aggiudicatrice in conformità ai criteri di capacità economica, finanziaria e tecnica di cui agli artt. da 47 a 52 della direttiva 2004/18/CE (trasposti negli articoli 41, 42, 43 e 44 del Codice).</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 </a:t>
            </a:r>
            <a:r>
              <a:rPr b="0" lang="it-IT" sz="2400" spc="-1" strike="noStrike">
                <a:solidFill>
                  <a:srgbClr val="000000"/>
                </a:solidFill>
                <a:latin typeface="Constantia"/>
              </a:rPr>
              <a:t>Lo scopo di queste disposizioni è quello di stabilire quali sono le referenze probanti o i mezzi di prova che possono prodursi per dimostrare la capacità finanziaria, economica e tecnica dei fornitori.</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E7AAF2-47AB-49D7-B590-A7EEF5A9EB9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1</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la valutazione delle offerte nell’ambito di una gara di appalto, una stazione appaltante può scegliere tra il criterio del </a:t>
            </a:r>
            <a:r>
              <a:rPr b="1" lang="it-IT" sz="2400" spc="-1" strike="noStrike">
                <a:solidFill>
                  <a:srgbClr val="000000"/>
                </a:solidFill>
                <a:latin typeface="Constantia"/>
              </a:rPr>
              <a:t>prezzo più basso </a:t>
            </a:r>
            <a:r>
              <a:rPr b="0" lang="it-IT" sz="2400" spc="-1" strike="noStrike">
                <a:solidFill>
                  <a:srgbClr val="000000"/>
                </a:solidFill>
                <a:latin typeface="Constantia"/>
              </a:rPr>
              <a:t>e quello dell’</a:t>
            </a:r>
            <a:r>
              <a:rPr b="1" lang="it-IT" sz="2400" spc="-1" strike="noStrike">
                <a:solidFill>
                  <a:srgbClr val="000000"/>
                </a:solidFill>
                <a:latin typeface="Constantia"/>
              </a:rPr>
              <a:t>offerta economicamente più vantaggiosa </a:t>
            </a:r>
            <a:r>
              <a:rPr b="0" lang="it-IT" sz="2400" spc="-1" strike="noStrike">
                <a:solidFill>
                  <a:srgbClr val="000000"/>
                </a:solidFill>
                <a:latin typeface="Constantia"/>
              </a:rPr>
              <a:t>(art. 81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 prezzo più basso ha come unico elemento valutativo il dato economico (prezzo proposto per la fornitura/il servizio in appalto – art. 82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l’offerta economicamente più vantaggiosa è invece un sistema multicriteriale, nel quale sono presi in esame elementi ulteriori rispetto al prezzo, quali ad es. la qualità del processo produttivo, il pregio tecnico, il contenimento dei consumi (art. 83 Codice).</a:t>
            </a:r>
            <a:endParaRPr b="0" lang="en-US" sz="2400" spc="-1" strike="noStrike">
              <a:solidFill>
                <a:srgbClr val="000000"/>
              </a:solidFill>
              <a:latin typeface="Constantia"/>
            </a:endParaRPr>
          </a:p>
        </p:txBody>
      </p:sp>
      <p:sp>
        <p:nvSpPr>
          <p:cNvPr id="26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815407-7274-4D1C-82B2-B38D9DA55E2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2</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 linea di massima, il criterio del </a:t>
            </a:r>
            <a:r>
              <a:rPr b="1" lang="it-IT" sz="2600" spc="-1" strike="noStrike">
                <a:solidFill>
                  <a:srgbClr val="000000"/>
                </a:solidFill>
                <a:latin typeface="Constantia"/>
              </a:rPr>
              <a:t>prezzo più basso </a:t>
            </a:r>
            <a:r>
              <a:rPr b="0" lang="it-IT" sz="2600" spc="-1" strike="noStrike">
                <a:solidFill>
                  <a:srgbClr val="000000"/>
                </a:solidFill>
                <a:latin typeface="Constantia"/>
              </a:rPr>
              <a:t>è utilizzato dalle stazioni appaltanti per gli </a:t>
            </a:r>
            <a:r>
              <a:rPr b="1" lang="it-IT" sz="2600" spc="-1" strike="noStrike">
                <a:solidFill>
                  <a:srgbClr val="000000"/>
                </a:solidFill>
                <a:latin typeface="Constantia"/>
              </a:rPr>
              <a:t>appalti</a:t>
            </a:r>
            <a:r>
              <a:rPr b="0" lang="it-IT" sz="2600" spc="-1" strike="noStrike">
                <a:solidFill>
                  <a:srgbClr val="000000"/>
                </a:solidFill>
                <a:latin typeface="Constantia"/>
              </a:rPr>
              <a:t> relativi a forniture o servizi </a:t>
            </a:r>
            <a:r>
              <a:rPr b="1" lang="it-IT" sz="2600" spc="-1" strike="noStrike">
                <a:solidFill>
                  <a:srgbClr val="000000"/>
                </a:solidFill>
                <a:latin typeface="Constantia"/>
              </a:rPr>
              <a:t>standardizzati</a:t>
            </a:r>
            <a:r>
              <a:rPr b="0" lang="it-IT" sz="2600" spc="-1" strike="noStrike">
                <a:solidFill>
                  <a:srgbClr val="000000"/>
                </a:solidFill>
                <a:latin typeface="Constantia"/>
              </a:rPr>
              <a:t>, rispetto ai quali i margini migliorativi proponibili dagli operatori economici sono praticamente nulli.</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metodo dell’</a:t>
            </a:r>
            <a:r>
              <a:rPr b="1" lang="it-IT" sz="2600" spc="-1" strike="noStrike">
                <a:solidFill>
                  <a:srgbClr val="000000"/>
                </a:solidFill>
                <a:latin typeface="Constantia"/>
              </a:rPr>
              <a:t>offerta economicamente più vantaggiosa </a:t>
            </a:r>
            <a:r>
              <a:rPr b="0" lang="it-IT" sz="2600" spc="-1" strike="noStrike">
                <a:solidFill>
                  <a:srgbClr val="000000"/>
                </a:solidFill>
                <a:latin typeface="Constantia"/>
              </a:rPr>
              <a:t>è invece utilizzato dalle stazioni appaltanti per gare nelle quali i concorrenti possono sviluppare </a:t>
            </a:r>
            <a:r>
              <a:rPr b="1" lang="it-IT" sz="2600" spc="-1" strike="noStrike">
                <a:solidFill>
                  <a:srgbClr val="000000"/>
                </a:solidFill>
                <a:latin typeface="Constantia"/>
              </a:rPr>
              <a:t>proposte con margini migliorativi </a:t>
            </a:r>
            <a:r>
              <a:rPr b="0" lang="it-IT" sz="2600" spc="-1" strike="noStrike">
                <a:solidFill>
                  <a:srgbClr val="000000"/>
                </a:solidFill>
                <a:latin typeface="Constantia"/>
              </a:rPr>
              <a:t>(es. nelle gare per servizi nelle quali sia presentato un progetto gestionale).</a:t>
            </a:r>
            <a:endParaRPr b="0" lang="en-US" sz="2600" spc="-1" strike="noStrike">
              <a:solidFill>
                <a:srgbClr val="000000"/>
              </a:solidFill>
              <a:latin typeface="Constantia"/>
            </a:endParaRPr>
          </a:p>
        </p:txBody>
      </p:sp>
      <p:sp>
        <p:nvSpPr>
          <p:cNvPr id="26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75CD77-4DA6-419B-9B95-03C8A0E9957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Ammissione alla gar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e stazioni appaltanti hanno la necessità di ammettere alla gara operatori economici che siano in grado di realizzare le forniture o i servizi in termini rispondenti con quanto richiesto (oggetto dell’appalto, dimensioni complessive, specifiche tecniche).</a:t>
            </a:r>
            <a:endParaRPr b="0" lang="en-US" sz="2300" spc="-1" strike="noStrike">
              <a:solidFill>
                <a:srgbClr val="000000"/>
              </a:solidFill>
              <a:latin typeface="Constantia"/>
            </a:endParaRPr>
          </a:p>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ammissione alla gara avviene mediante l’analisi del possesso di requisiti di ordine generale (che evidenziano l’assenza di elementi ostativi alla costituzione di rapporti con il committente pubblico), di idoneità professionale (dimostrata da iscrizione registri o albi), di capacità economico-finanziaria (affidabilità economica) e di capacità tecnico-professionale (affidabilità realizzativa e organizzativa).</a:t>
            </a:r>
            <a:endParaRPr b="0" lang="en-US" sz="2300" spc="-1" strike="noStrike">
              <a:solidFill>
                <a:srgbClr val="000000"/>
              </a:solidFill>
              <a:latin typeface="Constantia"/>
            </a:endParaRPr>
          </a:p>
        </p:txBody>
      </p:sp>
      <p:sp>
        <p:nvSpPr>
          <p:cNvPr id="2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46928-00BA-4CDD-81CA-56D5BD518AD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1</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ha ampi margini di discrezionalità nella indicazione dei criteri da porre quale riferimento per l’individuazione dell’offerta economicamente più vantaggiosa.</a:t>
            </a:r>
            <a:endParaRPr b="0" lang="en-US" sz="2400" spc="-1" strike="noStrike">
              <a:solidFill>
                <a:srgbClr val="000000"/>
              </a:solidFill>
              <a:latin typeface="Constantia"/>
            </a:endParaRPr>
          </a:p>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elencazione dei criteri, infatti, evidentemente non deve ritenersi tassativa, potendo essere previsti nel bando ulteriori elementi individuati in relazione al carattere specifico delle opere da realizzare. Inoltre, la interpretazione del dato testuale “sulla base di una pluralità di criteri tra i quali” conduce a ritenere che neppure gli elementi indicati dalla normativa (art. 83 Codice)  devono ritenersi vincolanti nella redazione del bando, potendo la stazione appaltante sceglierne solo alcuni (TAR Lazio – Roma, sez. III, sent. n. 630 del 26 gennaio 2009).</a:t>
            </a:r>
            <a:endParaRPr b="0" lang="en-US" sz="2400" spc="-1" strike="noStrike">
              <a:solidFill>
                <a:srgbClr val="000000"/>
              </a:solidFill>
              <a:latin typeface="Constantia"/>
            </a:endParaRPr>
          </a:p>
        </p:txBody>
      </p:sp>
      <p:sp>
        <p:nvSpPr>
          <p:cNvPr id="27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E0903-34CC-406B-9CA5-3606C19632E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2</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unico limite nella scelta dei criteri, che pur non deriva dal testo della normativa (art. 83 Codice), ma dalla sua ratio è l’indicazione dell’elemento prezzo, che può essere diversamente graduato, ma non può venire meno del tutto.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fatti, l’ aggiudicazione con il sistema dell’offerta economicamente più vantaggiosa, anche nel 46 considerando della direttiva n° 18 del 2004, è definita quella che tende a garantire il miglior rapporto tra qualità e prezzo.</a:t>
            </a:r>
            <a:endParaRPr b="0" lang="en-US" sz="2600" spc="-1" strike="noStrike">
              <a:solidFill>
                <a:srgbClr val="000000"/>
              </a:solidFill>
              <a:latin typeface="Constantia"/>
            </a:endParaRPr>
          </a:p>
        </p:txBody>
      </p:sp>
      <p:sp>
        <p:nvSpPr>
          <p:cNvPr id="27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941000-E224-47F0-9747-0376C9EE4CC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3</a:t>
            </a:r>
            <a:endParaRPr b="0" lang="en-US" sz="5000" spc="-1" strike="noStrike">
              <a:solidFill>
                <a:srgbClr val="04617b"/>
              </a:solidFill>
              <a:latin typeface="Calibri"/>
            </a:endParaRPr>
          </a:p>
        </p:txBody>
      </p:sp>
      <p:sp>
        <p:nvSpPr>
          <p:cNvPr id="280" name=""/>
          <p:cNvSpPr txBox="1"/>
          <p:nvPr/>
        </p:nvSpPr>
        <p:spPr>
          <a:xfrm>
            <a:off x="457200" y="1785600"/>
            <a:ext cx="8229600" cy="4538520"/>
          </a:xfrm>
          <a:prstGeom prst="rect">
            <a:avLst/>
          </a:prstGeom>
          <a:noFill/>
          <a:ln w="0">
            <a:noFill/>
          </a:ln>
        </p:spPr>
        <p:txBody>
          <a:bodyPr lIns="90000" rIns="90000" tIns="46800" bIns="46800" anchor="t">
            <a:normAutofit fontScale="96000"/>
          </a:bodyPr>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l criterio di aggiudicazione all’offerta economicamente più vantaggiosa si tiene conto di una pluralità di elementi, anche qualitativi, e non solo del prezzo offerto.</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petta al bando di gara, di volta in volta, stabilire il peso di ciascuna componente dell’offerta, e dunque il relativo punteggio per il prezzo e gli elementi qualitativi. La disciplina vigente non stabilisce </a:t>
            </a:r>
            <a:r>
              <a:rPr b="0" i="1" lang="it-IT" sz="1800" spc="-1" strike="noStrike">
                <a:solidFill>
                  <a:srgbClr val="000000"/>
                </a:solidFill>
                <a:latin typeface="Constantia"/>
              </a:rPr>
              <a:t>ex ante</a:t>
            </a:r>
            <a:r>
              <a:rPr b="0" lang="it-IT" sz="1800" spc="-1" strike="noStrike">
                <a:solidFill>
                  <a:srgbClr val="000000"/>
                </a:solidFill>
                <a:latin typeface="Constantia"/>
              </a:rPr>
              <a:t> se debba avere importanza preponderante il prezzo, o viceversa i fattori qualitativi.</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a scelta del peso relativo di ciascun elemento è rimessa caso per caso alla stazione appaltante, a seconda delle peculiarità specifiche dell’appalto, e dunque dell’importanza che, nel caso concreto, ha il fattore prezzo o l’elemento qualità. Tale scelta, ampiamente discrezionale, è sindacabile solo se palesemente illogica, irragionevole, travisata.</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pertanto in astratto irragionevole che il bando attribuisca al prezzo un peso pari al 60% e alle altre componenti dell’offerta un peso pari al 40%, ma se da un’attenta analisi delle modalità applicative fissate dal bando stesso, viene ad evidenziarsi che l’atto regolativo della gara, al di là della mera enunciazione del peso relativo 60-40, in realtà esso va ad attribuire all’elemento prezzo un peso molto più eleva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B5668D-565E-407A-B7DB-8E9059D88A8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4</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gli appalti di servizi da affidare con il sistema dell’offerta economicamente più vantaggiosa, l’art 83 del D. Lgs. n. 163/2006 non impone alle amministrazioni appaltanti di dare preminenza all’offerta economica, disponendo tale norma unicamente che il prezzo, al pari di altri elementi nella stessa elencati (peraltro a titolo esemplificativo), debba essere uno dei criteri di valutazione delle offerte.</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Ove il bando richieda l’espletamento di attività per lo più tecniche nella materia dell’appalto e che il gruppo di lavoro che dovrà svolgere il servizio sia costituito anche da personale in possesso di determinati titoli di studio in materie tecniche e delle relative specifiche professionalità, non sembra di per sé illogica la riferita disposizione della "lex specialis" che assegna valore preminente all’offerta tecnica rispetto a quella economica.</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illogica proprio alla luce della peculiarità del servizio,della indubbia tecnicità delle attività da svolgere, degli elevati standards qualitativi richiesti e anche del fatto che l’Amministrazione ha provveduto, autolimitando il proprio potere di valutazione discrezionale, a ripartire l’offerta tecnica in diverse categorie e sottocategorie, una conseguente pesatura di 80 punti dell’offerta tecnica (TAR Emilia Romagna - Parma, Sezione I.  Sentenza 7 novembre 2007 n. 523).</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57069-3548-4E61-B080-5F0EDCE02ED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5</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do per l'aggiudicazione della gara sia stato prescelto il criterio della offerta economicamente più vantaggiosa, rientra nella discrezionalità della stazione appaltante la determinazione della incidenza del prezzo nella valutazione dell'offerta, senza che esista un peso minimo predeterminato per tale elemento e purché la natura propria del criterio, postulante la ricerca di un equilibrio tra prezzo e qualità necessariamente correlato alla specificità di ciascun affidamento, non venga tradita riconoscendosi sostanziale assoluta preminenza al c.d. merito tecnico (T.A.R. Campania Napoli, sez. I, 04 maggio 2007 , n. 4735).</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A1C56-9DEC-4F83-8345-199C2BD52A0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6</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Nell'offerta economicamente più vantaggiosa è illegittimo il criterio di attribuzione del punteggio al prezzo che abbia l'effetto di privare di sostanziale incidenza l'offerta economica assegnando preponderanza decisiva a quella tecnica.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eve essere adottata una formula che consenta una distribuzione del punteggio per l’offerta economica proporzionale alla differenza tra i ribassi proposti; tale obiettivo può essere conseguito attraverso il sistema della interpolazione lineare (Consiglio di Stato, Sezione Quinta, 9 marzo 2009, n. 1368).</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A3AD97-7178-4264-A1EC-8165484B5A2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lausola di sbarramento qualitativo</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spetto all’aggiudicazione con il sistema dell’offerta economicamente più vantaggiosa, la giurisprudenza ha ritenuto legittime le clausole del bando che prevedono la valutazione dell’offerta economica solo in caso di un punteggio minimo raggiunto dall’offerta, considerata la rilevanza che può avere l’aspetto della qualità tecnica per la amministrazione aggiudicatrice ( cfr Consiglio Stato , sez. V, 03 marzo 2004 , n. 1040, che ha affermato la legittimità di una clausola di sbarramento, prevista nel capitolato speciale per una gara di appalto per l'aggiudicazione di un servizio all' offerta economicamente più vantaggiosa , che non consente la valutazione del prezzo nel caso di offerte che sotto il profilo qualitativo non raggiungano un punteggio minimo).</a:t>
            </a:r>
            <a:endParaRPr b="0" lang="en-US" sz="2400" spc="-1" strike="noStrike">
              <a:solidFill>
                <a:srgbClr val="000000"/>
              </a:solidFill>
              <a:latin typeface="Constantia"/>
            </a:endParaRPr>
          </a:p>
        </p:txBody>
      </p:sp>
      <p:sp>
        <p:nvSpPr>
          <p:cNvPr id="29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E70198-AC69-4E82-A6BC-6CB230B62EB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1</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a stazione appaltante non può applicare regole di ponderazione o sottocriteri per i criteri di aggiudicazione che non abbia preventivamente portato a conoscenza degli offerenti.</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offerenti devono essere posti su un piano di parità durante l’intera procedura, il che comporta che i criteri e le condizioni che si applicano a ciascuna gara debbano costituire oggetto di un’adeguata pubblicità da parte delle amministrazioni aggiudicatici (Corte di giustizia europea, Sez. I, sentenza n. C-532/06 del 24 gennaio 2008).</a:t>
            </a:r>
            <a:endParaRPr b="0" lang="en-US" sz="2600" spc="-1" strike="noStrike">
              <a:solidFill>
                <a:srgbClr val="000000"/>
              </a:solidFill>
              <a:latin typeface="Constantia"/>
            </a:endParaRPr>
          </a:p>
        </p:txBody>
      </p:sp>
      <p:sp>
        <p:nvSpPr>
          <p:cNvPr id="3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FB1B2B-FEF8-42E5-B5D7-5E028C1B182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2</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Qualora invece la stazione appaltante abbia menzionato nel bando di gara i soli criteri di aggiudicazione, individuando in un momento successivo, dopo la presentazione delle offerte e dopo l’apertura delle domande di manifestazione di interesse, sia i coefficienti di ponderazione sia i sottocriteri per tali criteri di aggiudicazione, ciò non soddisfa l’obbligo di pubblicità previsto dalle disposizioni della direttiva, letto alla luce del principio di parità di trattamento degli operatori economici e dell’obbligo di trasparenz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46017F-56D7-4734-A811-4D9EDB42721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3</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l fine di garantire il rispetto dei principi di parità di trattamento e trasparenza, occorre che i criteri, sub – criteri e sub – punteggi che saranno utilizzati per l’aggiudicazione di una procedura di gara, siano messi a disposizione dei concorrenti prima che essi formulino la loro offerta, in modo da permettere loro di tenerne conto (Consiglio di Stato, sez. V, sentenza n. 2147 del 7 aprile 2009).</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Tale regola traduce il principio secondo cui non possono essere introdotti in via successiva criteri di esclusione dei partecipanti dalla gara.</a:t>
            </a:r>
            <a:endParaRPr b="0" lang="en-US" sz="2600" spc="-1" strike="noStrike">
              <a:solidFill>
                <a:srgbClr val="000000"/>
              </a:solidFill>
              <a:latin typeface="Constantia"/>
            </a:endParaRPr>
          </a:p>
        </p:txBody>
      </p:sp>
      <p:sp>
        <p:nvSpPr>
          <p:cNvPr id="3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C50C3E-DC90-44E2-8662-E47026E8D99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facoltativi</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un’analisi più ampia delle caratteristiche degli operatori economici (relative ai processi produttivi dagli stessi messi in opera) la stazione appaltante può  richiedere anche la dimostrazione del possesso di:</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elementi attestanti l'ottemperanza dell'operatore economico a determinate norme in materia di garanzia della qualità (certificazione di qualità, art. 43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misure di gestione ambientale che l'operatore economico potrà applicare durante l'esecuzione del contratto (per soli servizi, art. 44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Tali requisiti sono assimilabili ai requisiti di capacità previsti dagli artt. 41 e 42.</a:t>
            </a:r>
            <a:endParaRPr b="0" lang="en-US" sz="2400" spc="-1" strike="noStrike">
              <a:solidFill>
                <a:srgbClr val="000000"/>
              </a:solidFill>
              <a:latin typeface="Constantia"/>
            </a:endParaRPr>
          </a:p>
        </p:txBody>
      </p:sp>
      <p:sp>
        <p:nvSpPr>
          <p:cNvPr id="2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30279-830C-4DA3-98AE-DD148CB866A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1</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esigenza di non lasciare spazi di discrezionalità valutativa ai commissari, quando l’appalto è affidato con il criterio dell’offerta economicamente più vantaggiosa, è affrontata oggi dall’art. 83 del Codice dei contratti pubblici che, fin dalla formulazione del bando di gara, impone che questo stabilisca i criteri di valutazione dell’offerta, precisando anche la ponderazione, e cioè il valore o la rilevanza relativa attribuita a ciascuno di essi.</a:t>
            </a:r>
            <a:endParaRPr b="0" lang="en-US" sz="2200" spc="-1" strike="noStrike">
              <a:solidFill>
                <a:srgbClr val="000000"/>
              </a:solidFill>
              <a:latin typeface="Constantia"/>
            </a:endParaRPr>
          </a:p>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norma impone ancora che sia sempre il bando a prevedere, ove necessario, per ciascun criterio di valutazione prescelto, i sub-criteri e i sub-pesi o i sub-punteggi, introducendo poi un ulteriore elemento di limitazione del potere discrezionale della commissione giudicatrice (confermato dall’eliminazione della parte della norma che prevedeva la possibilità di definire i criteri motivazionali di attribuzione dei punteggi determinata dal d.lgs. n. 152/2008).</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450D4-7D4E-4056-AA4F-981B43B5D82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71320"/>
            <a:ext cx="8229600" cy="1276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2</a:t>
            </a:r>
            <a:endParaRPr b="0" lang="en-US" sz="4500" spc="-1" strike="noStrike">
              <a:solidFill>
                <a:srgbClr val="04617b"/>
              </a:solidFill>
              <a:latin typeface="Calibri"/>
            </a:endParaRPr>
          </a:p>
        </p:txBody>
      </p:sp>
      <p:sp>
        <p:nvSpPr>
          <p:cNvPr id="316" name=""/>
          <p:cNvSpPr txBox="1"/>
          <p:nvPr/>
        </p:nvSpPr>
        <p:spPr>
          <a:xfrm>
            <a:off x="457200" y="1785600"/>
            <a:ext cx="8229600" cy="453852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rezione, dunque, verso la quale giurisprudenza e legislatore si sono mossi è stata quella di restringere al massimo, per quanto possibile, gli spazi di libertà valutativa delle offerte da giudicare con il metodo del criterio economicamente più vantaggioso (TAR Abruzzo – Pescara, sez. I, sentenza n. 8 del 7 gennaio 2008 ). </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sizione di cui al quarto comma dell’articolo 83 sembra portare all'estremo la limitazione della discrezionalità della commissione nella specificazione dei criteri, escludendone ogni facoltà di integrare il bando, e quindi facendo obbligo a quest'ultimo di prevedere e specificare gli eventuali sottocriteri.</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Ne consegue, ad esempio, l'illegittimità di una lex specialis che, pur richiamando il criterio di aggiudicazione dell'offerta economicamente più vantaggiosa, nulla preveda in ordine agli elementi dell'offerta da considerare ed all'attribuzione dei punteggi (TAR Lazio – Roma, sez. I-ter, sent. n. 10913 del 1 dicembre 2008).</a:t>
            </a:r>
            <a:endParaRPr b="0" lang="en-US" sz="2000" spc="-1" strike="noStrike">
              <a:solidFill>
                <a:srgbClr val="000000"/>
              </a:solidFill>
              <a:latin typeface="Constantia"/>
            </a:endParaRPr>
          </a:p>
        </p:txBody>
      </p:sp>
      <p:sp>
        <p:nvSpPr>
          <p:cNvPr id="3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FB0EE-D3CC-4E86-B4BC-FDFA3584EB9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1</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er giurisprudenza costante della Corte di Giustizia UE, la distinzione tra criteri di idoneità, ovvero di "selezione dell’offerente”, e criteri di aggiudicazione e quindi di "selezione dell’offerta" è rigorosa.</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enché non sia escluso che l’accertamento dell’idoneità degli offerenti e l’aggiudicazione dell’appalto possano aver luogo simultaneamente, le due operazioni sono disciplinate da norme diverse (Circolare del Dipartimento per le Politiche Comunitarie del 1 marzo 200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A7D27-7331-406C-B56A-EDAC205E770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2</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Corte di giustizia europea (Sez. I, con la sentenza n. C-532/06 del 24 gennaio 2008) afferma che quando i criteri applicati dalla stazione appaltante per la valutazione delle offerte riguardino essenzialmente l’esperienza, le qualifiche e i mezzi che possono garantire la corretta esecuzione dell’appalto, si tratta di elementi che attengono all’idoneità degli offerenti a eseguire l’appalto e che non costituiscono, quindi, criteri di aggiudicazione ai sensi della direttiva 92/50 (peraltro ora interamente trasposti nella direttiva 2004/18).</a:t>
            </a:r>
            <a:endParaRPr b="0" lang="en-US" sz="2600" spc="-1" strike="noStrike">
              <a:solidFill>
                <a:srgbClr val="000000"/>
              </a:solidFill>
              <a:latin typeface="Constantia"/>
            </a:endParaRPr>
          </a:p>
        </p:txBody>
      </p:sp>
      <p:sp>
        <p:nvSpPr>
          <p:cNvPr id="3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9EDAC8-F54A-4C13-AFE3-2E7A7519C5F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3</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efinizione dei criteri può riguardare soltanto elementi volti ad analizzare i vari profili delle proposte dei concorrenti e, di conseguenza, sono esclusi dai criteri di aggiudicazione quelli che non siano diretti ad identificare l’offerta economicamente più vantaggiosa, ma che siano essenzialmente collegati alla valutazione dell’idoneità degli offerenti ad eseguire l’appalto.</a:t>
            </a:r>
            <a:endParaRPr b="0" lang="en-US" sz="2400" spc="-1" strike="noStrike">
              <a:solidFill>
                <a:srgbClr val="000000"/>
              </a:solidFill>
              <a:latin typeface="Constantia"/>
            </a:endParaRPr>
          </a:p>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fferta deve essere valutata in base a criteri che hanno una diretta connessione con l’oggetto dell'appalto e che servono a misurare il valore, cio' che esclude che si possa fare riferimento alle qualità soggettive dell’offerent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BBF5ED-589B-4E1D-89FE-E3AC54B0EC0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4</a:t>
            </a:r>
            <a:endParaRPr b="0" lang="en-US" sz="45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Vi è una netta distinzione tra i criteri soggettivi di prequalificazione e quelli oggettivi attinenti all’aggiudicazione vera e propria, che ha la sua </a:t>
            </a:r>
            <a:r>
              <a:rPr b="0" i="1" lang="it-IT" sz="2000" spc="-1" strike="noStrike">
                <a:solidFill>
                  <a:srgbClr val="000000"/>
                </a:solidFill>
                <a:latin typeface="Constantia"/>
              </a:rPr>
              <a:t>ratio</a:t>
            </a:r>
            <a:r>
              <a:rPr b="0" lang="it-IT" sz="2000" spc="-1" strike="noStrike">
                <a:solidFill>
                  <a:srgbClr val="000000"/>
                </a:solidFill>
                <a:latin typeface="Constantia"/>
              </a:rPr>
              <a:t> nella necessità di separare i requisiti soggettivi di idoneità e partecipabilità alla gara da quelli oggettivi attinenti all’offerta ed all’aggiudicazione (TAR Campania – Napoli, sez. I, con la sentenza n. 7517 del 14 luglio 2006).</a:t>
            </a:r>
            <a:endParaRPr b="0" lang="en-US" sz="2000" spc="-1" strike="noStrike">
              <a:solidFill>
                <a:srgbClr val="000000"/>
              </a:solidFill>
              <a:latin typeface="Constantia"/>
            </a:endParaRPr>
          </a:p>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Pertanto è illegittimo l’inserimento di un requisito quale quello delle esperienze simili maturate nel corso del triennio, criterio soggettivo per l’individuazione della capacità tecnica, nella fase dell’aggiudicazione di un appalto per la gestione del servizio informativo” (Consiglio Stato, sez. V, sent. n. 1993/2003,; nello stesso senso, da ultimo, Consiglio di Stato, sez. V, sent. n. 1446/06; C. di S., sez. IV, sent. n. 1434/2005, secondo cui sussiste una netta distinzione tra i criteri soggettivi di pre – qualificazione e quelli oggettivi attinenti all’aggiudicazione vera e propria, con la conseguenza che nella fase dell’aggiudicazione non possono essere inseriti criteri attinenti all’individuazione della capacità tecnica dell’impresa).</a:t>
            </a:r>
            <a:endParaRPr b="0" lang="en-US" sz="2000" spc="-1" strike="noStrike">
              <a:solidFill>
                <a:srgbClr val="000000"/>
              </a:solidFill>
              <a:latin typeface="Constantia"/>
            </a:endParaRPr>
          </a:p>
        </p:txBody>
      </p:sp>
      <p:sp>
        <p:nvSpPr>
          <p:cNvPr id="3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06BF3D-2A93-46D9-B6D0-0ED4E1BD487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1</a:t>
            </a:r>
            <a:endParaRPr b="0" lang="en-US" sz="45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affermato  ad esempio che, sulla base di tali assunti, deve ritenersi illegittima la previsione del capitolato di gara che attribuisce punti 10 per la voce esperienze, desunte dal fatturato dell’ultimo triennio, e punti 5 per la voce certificazione di qualità ISO, poiché si tratta, chiaramente, di elementi soggettivi, concernenti la capacità tecnica delle concorrenti, illegittimamente inseriti tra i criteri oggettivi di valutazione della fornitura da prestare, da tener presenti ai fini dell’individuazione dell’offerta economicamente più vantaggiosa, sotto i profili del prezzo e della qualità.</a:t>
            </a:r>
            <a:endParaRPr b="0" lang="en-US" sz="2200" spc="-1" strike="noStrike">
              <a:solidFill>
                <a:srgbClr val="000000"/>
              </a:solidFill>
              <a:latin typeface="Constantia"/>
            </a:endParaRPr>
          </a:p>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n tale situazione, difetta il requisito del collegamento dei criteri di aggiudicazione all’oggetto dell’appalto, o alla natura della prestazione, richiesto dalla disciplina legislativa, di fonte nazionale e comunitaria (Consiglio di Stato, sez. V, sentenza n. 837 del 16 febbraio 2009).</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D43DE8-8DA0-40E2-8842-3D7547ED8F8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2</a:t>
            </a:r>
            <a:endParaRPr b="0" lang="en-US" sz="45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censurato la previsione di un rilevante punteggio per elementi che nulla hanno a che vedere con il merito tecnico dell’offerta e che attengano, invece, all’esperienza professionale acquisita dal concorrente (es. </a:t>
            </a:r>
            <a:r>
              <a:rPr b="0" i="1" lang="it-IT" sz="2200" spc="-1" strike="noStrike">
                <a:solidFill>
                  <a:srgbClr val="000000"/>
                </a:solidFill>
                <a:latin typeface="Constantia"/>
              </a:rPr>
              <a:t>curriculum</a:t>
            </a:r>
            <a:r>
              <a:rPr b="0" lang="it-IT" sz="2200" spc="-1" strike="noStrike">
                <a:solidFill>
                  <a:srgbClr val="000000"/>
                </a:solidFill>
                <a:latin typeface="Constantia"/>
              </a:rPr>
              <a:t>, licenze o certificazioni di qualità ovvero servizi analoghi prestati in precedenza. </a:t>
            </a:r>
            <a:endParaRPr b="0" lang="en-US" sz="2200" spc="-1" strike="noStrike">
              <a:solidFill>
                <a:srgbClr val="000000"/>
              </a:solidFill>
              <a:latin typeface="Constantia"/>
            </a:endParaRPr>
          </a:p>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Tali elementi, in quanto attinenti alla capacità del prestatore di eseguire i servizi oggetto dell’appalto, possono essere utilizzati unicamente ai fini della selezione dei concorrenti; l’esperienza, la competenza, le referenze, i lavori già realizzati, le risorse disponibili sono elementi che possono essere utilizzati come criteri di selezione e non devono essere presi in considerazione nel momento di valutazione dell’offerta (Consiglio di Stato, sez. V, sentenza n. 2147 del 7 aprile 2009).</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34D76-78B5-4F6C-9A55-7980CA8D2821}"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criteri e sub-criteri: sintesi</a:t>
            </a:r>
            <a:endParaRPr b="0" lang="en-US" sz="4500" spc="-1" strike="noStrike">
              <a:solidFill>
                <a:srgbClr val="04617b"/>
              </a:solidFill>
              <a:latin typeface="Calibri"/>
            </a:endParaRPr>
          </a:p>
        </p:txBody>
      </p:sp>
      <p:graphicFrame>
        <p:nvGraphicFramePr>
          <p:cNvPr id="344" name=""/>
          <p:cNvGraphicFramePr/>
          <p:nvPr/>
        </p:nvGraphicFramePr>
        <p:xfrm>
          <a:off x="457200" y="1785960"/>
          <a:ext cx="8186760" cy="4816440"/>
        </p:xfrm>
        <a:graphic>
          <a:graphicData uri="http://schemas.openxmlformats.org/drawingml/2006/table">
            <a:tbl>
              <a:tblPr/>
              <a:tblGrid>
                <a:gridCol w="4094280"/>
                <a:gridCol w="4092480"/>
              </a:tblGrid>
              <a:tr h="2770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finizione dei criteri per la valutazione delle offerte nelle procedure di gara aggiudicate con l’offerta economicamente più vantaggiosa.</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vono essere elementi effettivamente volti ad analizzare le proposte dei concor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Non possono essere elementi collegati alla valutazione dell’idoneità degli offerenti ad eseguire l’appalto, quali l’esperienza o le qualifiche e i mezzi che possono garantire la corretta esecuzione dell’appalto.</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527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Definizione dei subcriteri e dei pesi di ponderazione dei criteri e dei subcriteri.</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Un’amministrazione aggiudicatrice non può applicare regole di ponderazione o sottocriteri per i criteri di aggiudicazione che non abbia preventivamente portato a conoscenza degli offe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Tali elementi devono pertanto essere resi noti negli atti di gara.</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F363D-3821-43A5-A1E5-98DF1F80803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1</a:t>
            </a:r>
            <a:endParaRPr b="0" lang="en-US" sz="45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 appalto “critico” può essere individuato in base ad alcuni elementi “evidenti” nel bando o nel disciplinare di gara.</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economico-finanziaria sproporzionati: fatturato complessivo superiore ad un rapporto ottimale 1:2 o 1:3 rispetto a valore complessivo appalto; fatturato specifico superiore ad un rapporto ottimale 1:1 o 1:1,5 rispetto a valore complessivo appalto.</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tecnico-professionale sproporzionati: numero elevato di servizi o forniture svolti nell’ultimo triennio.</a:t>
            </a:r>
            <a:endParaRPr b="0" lang="en-US" sz="2600" spc="-1" strike="noStrike">
              <a:solidFill>
                <a:srgbClr val="000000"/>
              </a:solidFill>
              <a:latin typeface="Constantia"/>
            </a:endParaRPr>
          </a:p>
        </p:txBody>
      </p:sp>
      <p:sp>
        <p:nvSpPr>
          <p:cNvPr id="3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8580CF-0D6F-4F8B-A870-D0BA00045DA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di capacità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degli operatori economici di realizzare un appalto e di sostenerne lo sviluppo complessivo (anche sotto il profilo economico) può essere analizzata dalla stazione appaltante mediante la richiesta di requisiti specific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Negli appalti pubblici di servizi o forniture la capacità economica può essere rilevata richiedendo uno o più degli elementi individuati dall’art. 41 del d.lgs. n. 163/2006.</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tecnico-professionale può essere rilevata richiedendo uno o più degli elementi individuati dall’art. 42 dello stesso Codice dei contratti pubblici.</a:t>
            </a:r>
            <a:endParaRPr b="0" lang="en-US" sz="2400" spc="-1" strike="noStrike">
              <a:solidFill>
                <a:srgbClr val="000000"/>
              </a:solidFill>
              <a:latin typeface="Constantia"/>
            </a:endParaRPr>
          </a:p>
        </p:txBody>
      </p:sp>
      <p:sp>
        <p:nvSpPr>
          <p:cNvPr id="2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C7B5-C845-4DF3-9046-EB727FDDEEF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2</a:t>
            </a:r>
            <a:endParaRPr b="0" lang="en-US" sz="45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elementi critici sono rinvenibili anche nei criteri di valutazione, in caso di utilizzo dell’offerta economicamente più vantaggiosa.</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e sub-criteri (e pesi e sub-pesi) non specificati nel bando o nel disciplinare, con rinvio ad integrazione da parte della Commissione giudicatrice.</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di valutazione della parte tecnico-qualitativa fondati su elementi oggettivi (esperienze precedenti, possesso certificazione di qualità, dati patrimoniali, numero dipendenti, valore fatturato, ecc.).</a:t>
            </a:r>
            <a:endParaRPr b="0" lang="en-US" sz="2600" spc="-1" strike="noStrike">
              <a:solidFill>
                <a:srgbClr val="000000"/>
              </a:solidFill>
              <a:latin typeface="Constantia"/>
            </a:endParaRPr>
          </a:p>
        </p:txBody>
      </p:sp>
      <p:sp>
        <p:nvSpPr>
          <p:cNvPr id="3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D53AD-63C7-4B57-9DE4-5492EEEA244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3</a:t>
            </a:r>
            <a:endParaRPr b="0" lang="en-US" sz="45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rofili di criticità possono essere rilevati anche nella combinazione tra criteri tecnico-qualitativi e prezzo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roporzione rilevante nella distribuzione dei pesi ponderali (es. 80 o 90 punti alla qualità) quando la componente economica deve avere un significato rilevante (es. per servizi finanziari).</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tilizzo di formule di attribuzione del punteggio prezzo  in grado di distanziare eccessivamente le offerte e, conseguentemente, di consentire ad offerte con prezzi molto bassi di “recuperare” il distacco determinato sul piano tecnico-qualitativo.</a:t>
            </a:r>
            <a:endParaRPr b="0" lang="en-US" sz="2600" spc="-1" strike="noStrike">
              <a:solidFill>
                <a:srgbClr val="000000"/>
              </a:solidFill>
              <a:latin typeface="Constantia"/>
            </a:endParaRPr>
          </a:p>
        </p:txBody>
      </p:sp>
      <p:sp>
        <p:nvSpPr>
          <p:cNvPr id="3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FBEFA6-FEF2-4B3D-813C-2038D64587F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economico-finanziaria</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dimostrazione della capacità economico-finanziaria può avvenire (art. 41) mediante richiesta ai concorrenti della presentazione di:</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 dichiarazione di almeno due istituti bancari o intermediari autorizzati ;</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 bilanci o estratti dei bilanci dell'impresa o autocertificazione  dei dati di bilancio;</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 autocertificazione concernente il fatturato globale d'impresa e l'importo relativo ai servizi o forniture nel settore oggetto della gara, realizzati negli ultimi tre esercizi.</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2E250-6615-4644-9270-DD80D0A359D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tecnico-professionale</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imostrazione della capacità tecnico-professionale può avvenire (art. 42) mediante richiesta ai concorrenti della presentazione di elementi dimostrativ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dell’esperienza maturata (es. forniture o servizi prestati nel triennio precedente);</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dell’organizzazione complessiva dell’operatore economico (es.  indicazione del numero medio di dipendent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c) delle capacità dei soggetti destinati a svolgere l’appalto ( es. con indicazione dei titoli di studio e/o professionali , rappresentati in curricula degli operatori).</a:t>
            </a:r>
            <a:endParaRPr b="0" lang="en-US" sz="2400" spc="-1" strike="noStrike">
              <a:solidFill>
                <a:srgbClr val="000000"/>
              </a:solidFill>
              <a:latin typeface="Constantia"/>
            </a:endParaRPr>
          </a:p>
        </p:txBody>
      </p:sp>
      <p:sp>
        <p:nvSpPr>
          <p:cNvPr id="2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2E6A1D-F771-454D-96D8-159E93F34CF6}"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pazio definizione requisiti della stazione appaltante</a:t>
            </a:r>
            <a:endParaRPr b="0" lang="en-US" sz="4500" spc="-1" strike="noStrike">
              <a:solidFill>
                <a:srgbClr val="04617b"/>
              </a:solidFill>
              <a:latin typeface="Calibri"/>
            </a:endParaRPr>
          </a:p>
        </p:txBody>
      </p:sp>
      <p:sp>
        <p:nvSpPr>
          <p:cNvPr id="220" name=""/>
          <p:cNvSpPr txBox="1"/>
          <p:nvPr/>
        </p:nvSpPr>
        <p:spPr>
          <a:xfrm>
            <a:off x="457200" y="1856880"/>
            <a:ext cx="8229600" cy="4467240"/>
          </a:xfrm>
          <a:prstGeom prst="rect">
            <a:avLst/>
          </a:prstGeom>
          <a:noFill/>
          <a:ln w="0">
            <a:noFill/>
          </a:ln>
        </p:spPr>
        <p:txBody>
          <a:bodyPr lIns="90000" rIns="90000" tIns="46800" bIns="46800" anchor="t">
            <a:normAutofit fontScale="94000"/>
          </a:bodyPr>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La giurisprudenza ammette una certa discrezionalità della stazione appaltante nel fissare i requisiti di partecipazione alla singola gara, in modo più rigoroso ed anche in numero superiore rispetto a quelli  minimi previsti dalla legge (cfr. Consiglio di Stato, Sez. V , 17 maggio 2005 n. 2465 e  5 settembre 2008 n. 4283; Sez. IV, 6 ottobre 2003, n. 5823; Sez. VI, 10 ottobre 2002, n.</a:t>
            </a:r>
            <a:r>
              <a:rPr b="0" i="1" lang="it-IT" sz="2100" spc="-1" strike="noStrike">
                <a:solidFill>
                  <a:srgbClr val="000000"/>
                </a:solidFill>
                <a:latin typeface="Constantia"/>
              </a:rPr>
              <a:t> </a:t>
            </a:r>
            <a:r>
              <a:rPr b="0" lang="it-IT" sz="2100" spc="-1" strike="noStrike">
                <a:solidFill>
                  <a:srgbClr val="000000"/>
                </a:solidFill>
                <a:latin typeface="Constantia"/>
              </a:rPr>
              <a:t>5442). </a:t>
            </a:r>
            <a:endParaRPr b="0" lang="en-US" sz="2100" spc="-1" strike="noStrike">
              <a:solidFill>
                <a:srgbClr val="000000"/>
              </a:solidFill>
              <a:latin typeface="Constantia"/>
            </a:endParaRPr>
          </a:p>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Perciò, la S.A. può introdurre, nella </a:t>
            </a:r>
            <a:r>
              <a:rPr b="0" i="1" lang="it-IT" sz="2100" spc="-1" strike="noStrike">
                <a:solidFill>
                  <a:srgbClr val="000000"/>
                </a:solidFill>
                <a:latin typeface="Constantia"/>
              </a:rPr>
              <a:t>lex specialis</a:t>
            </a:r>
            <a:r>
              <a:rPr b="0" lang="it-IT" sz="2100" spc="-1" strike="noStrike">
                <a:solidFill>
                  <a:srgbClr val="000000"/>
                </a:solidFill>
                <a:latin typeface="Constantia"/>
              </a:rPr>
              <a:t> della gara d’appalto che intende indire, disposizioni atte a limitare la platea dei concorrenti per consentire la partecipazione alla gara stessa di soggetti particolarmente qualificati, specie per ciò che attiene al possesso di requisiti di capacità tecnica e finanziaria, tutte le volte in cui tale scelta non sia eccessivamente quanto irragionevolmente limitativa della concorrenza (v. Consiglio di Stato, sez. VI, 23 luglio 2008 n.3665).</a:t>
            </a:r>
            <a:endParaRPr b="0" lang="en-US" sz="2100" spc="-1" strike="noStrike">
              <a:solidFill>
                <a:srgbClr val="000000"/>
              </a:solidFill>
              <a:latin typeface="Constantia"/>
            </a:endParaRPr>
          </a:p>
          <a:p>
            <a:pPr marL="256320" indent="-2563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23308B-0A9A-4989-8287-197EA2B0A67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Esempio requisito più rigoroso</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 sostenibile la richiesta di un requisito patrimoniale prescritto di euro 2.000.000,00 , quando esso costituisce meno di un terzo del valore dell’appalto a base d’asta  di euro 6.250.000,00 ( euro 1.250.000,00  annuo x 5 anni), valore indicato nel bando di gara, ma anche in considerazione della non evidente irragionevolezza dell’esigenza sentita  dalla S.A. di assicurarsi una e  garanzia di maggior solvibilità dell’impresa (Consiglio di Stato, sez. V, sent. n. 525 del 2 febbraio 2009).</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CC2378-90B9-40EA-8032-E5D0F19498F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1</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deve definire i requisiti di capacità economico-finanziaria e tecnico-professionale </a:t>
            </a:r>
            <a:r>
              <a:rPr b="1" lang="it-IT" sz="2400" spc="-1" strike="noStrike">
                <a:solidFill>
                  <a:srgbClr val="000000"/>
                </a:solidFill>
                <a:latin typeface="Constantia"/>
              </a:rPr>
              <a:t>comunque</a:t>
            </a:r>
            <a:r>
              <a:rPr b="0" lang="it-IT" sz="2400" spc="-1" strike="noStrike">
                <a:solidFill>
                  <a:srgbClr val="000000"/>
                </a:solidFill>
                <a:latin typeface="Constantia"/>
              </a:rPr>
              <a:t> nel rispetto del </a:t>
            </a:r>
            <a:r>
              <a:rPr b="1" lang="it-IT" sz="2400" spc="-1" strike="noStrike">
                <a:solidFill>
                  <a:srgbClr val="000000"/>
                </a:solidFill>
                <a:latin typeface="Constantia"/>
              </a:rPr>
              <a:t>principio di </a:t>
            </a:r>
            <a:r>
              <a:rPr b="0" lang="it-IT" sz="2400" spc="-1" strike="noStrike">
                <a:solidFill>
                  <a:srgbClr val="000000"/>
                </a:solidFill>
                <a:latin typeface="Constantia"/>
              </a:rPr>
              <a:t>(necessaria) </a:t>
            </a:r>
            <a:r>
              <a:rPr b="1" lang="it-IT" sz="2400" spc="-1" strike="noStrike">
                <a:solidFill>
                  <a:srgbClr val="000000"/>
                </a:solidFill>
                <a:latin typeface="Constantia"/>
              </a:rPr>
              <a:t>proporzionalità</a:t>
            </a:r>
            <a:r>
              <a:rPr b="0" lang="it-IT" sz="2400" spc="-1" strike="noStrike">
                <a:solidFill>
                  <a:srgbClr val="000000"/>
                </a:solidFill>
                <a:latin typeface="Constantia"/>
              </a:rPr>
              <a:t> tra i requisiti richiesti e l’oggetto dell’affidamento.</a:t>
            </a:r>
            <a:endParaRPr b="0" lang="en-US" sz="2400" spc="-1" strike="noStrike">
              <a:solidFill>
                <a:srgbClr val="000000"/>
              </a:solidFill>
              <a:latin typeface="Constantia"/>
            </a:endParaRPr>
          </a:p>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facoltà delle stazioni appaltanti di richiedere nel bando di gara requisiti di partecipazione e di qualificazione ulteriori rispetto a quelli espressamente stabiliti dalla legge trova un limite nel principio di proporzionalità e ragionevolezza, nonché nel divieto di inutile aggravamento del procedimento di cui all'art. 1 comma 2 l. n. 241 del 1990 (cfr. ad es. T.A.R. Liguria Genova, sez. II, 23 giugno 2005 , n. 940 e Consiglio Stato , sez. IV, 28 aprile 2008 , n. 1860).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C7BA3-0E44-4C7A-B543-30462F8D347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8:14:46Z</dcterms:created>
  <dc:creator>Alberto Barbiero</dc:creator>
  <dc:description/>
  <dc:language>en-US</dc:language>
  <cp:lastModifiedBy>Alberto Barbiero</cp:lastModifiedBy>
  <dcterms:modified xsi:type="dcterms:W3CDTF">2009-06-29T17:17:38Z</dcterms:modified>
  <cp:revision>29</cp:revision>
  <dc:subject/>
  <dc:title>I requisiti di partecipazione ed i criteri di valutazione nelle gare per appalti di beni e servizi.</dc:title>
</cp:coreProperties>
</file>